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D01-13D3-46B8-9DD6-C90A0A1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1FE-B266-4D61-97B8-BCC7AF3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FFF1-71DB-463F-A4CF-45A8C60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06AFC-4919-4C1C-A4A8-53C0FD2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33BC6-297F-44BB-9264-20558D4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EA2F9-9170-4911-BFDD-22C1059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EC3A-7C10-4CFD-920B-17E2E8D0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6DA18-1EA8-4353-9C41-6909E39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FF7A-1C6F-4025-AF53-85430E8F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7F81F-1730-4998-A42A-02162287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000DE-2A56-4A86-A548-EC19C4CA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2E764-5648-4642-91E8-92275D7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487-C23B-45EE-8C88-799A4821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091C-B0D7-4B38-A571-5339B36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E172D-60F0-413F-A0F9-E334FBB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39CA6-8FF8-4FFC-8F9E-DE69B46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811A4-E61D-4E6D-9559-B3646F7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D3DAF-CDA0-428F-849C-65674034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3A1BB-DF75-4C95-AD16-DA0BCA3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2396-ABFD-444E-B68A-2A5B8A8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F8943-E729-493C-9375-954D43F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9926F-EA83-4A1F-8305-AD3D8C3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5AC08-FBB3-4B7E-8E9A-13710C87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359-E8EE-4D0D-88F3-CA6141F9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44EB-323B-412A-8873-7C678D05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F5BD-0A56-400A-8ECB-3672A466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28278-E389-47DF-9298-89D6B5D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D4A2B-3511-40AA-8E7C-C5B96FB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2987-081B-4746-BF43-64C462D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A551-086A-41C5-9A03-7A607F57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9FBFF-8781-4E20-A781-9B71319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4512-0907-44D9-8ABA-0232483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0AD5F-79C6-471D-879F-A554C26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26C33-82C9-4660-A4D0-84DA2B9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7E0-2141-4227-B00C-D2EB2973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702C5-16E5-4436-B5D9-0B723ED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59EC2-83AE-4A48-8D37-C940203E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F6629-B892-45C4-A5D6-C02951F9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B0A04-1FE9-4728-B72B-09371501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0395-97FE-4117-8750-7C4F0BDD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CFF5A-9A09-45C3-B465-66E9888E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0606E-7121-4A75-B651-B60EE43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9B669-185B-419D-A181-37C3451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BBF42-3243-4F6A-99C1-FF22AEDE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E17E2-78B6-47DE-9C8F-CC46211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B3A-5F17-476C-A5C6-DDF4E59C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05911-62E7-4BDD-BF26-3EEE28F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C3660-8F3A-4AB5-A6CA-3E2975D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88DB8-8892-4932-862D-F43DE9F0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9BC03-1D1C-4BC9-9222-8192BAC4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91553-20FD-44FA-B353-7831F60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F54E3-E344-4AD1-A79C-DCE3A6F5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FC1AA-528A-4BCE-BC06-5EAB3C06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9F927-3BAA-47F2-A973-38ECBC78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73680-458C-4299-98D0-6B895B05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925AC-B3DF-4FC7-80C0-75969414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547-0E39-4D70-9813-5FBD86B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32065-9FBF-4B48-8C13-E2C8A86B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56AE4-D4C5-47C6-BE0F-A134996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5ED65-DAD8-473B-A82C-8E72274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1697E-B90C-4586-9513-AC6C9C8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471F2-3FAC-41D9-AA45-2CA456A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3AC5C-CEFA-4375-93A4-D6AA2F69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D141A-1773-4F46-8A84-035063D3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47292-CB01-4A2B-BAA7-10E5DA85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0D7AC-D4EE-4E33-9591-8669BA2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43C7B-DD67-4103-B861-D1F2A2F7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093-0A47-4EFE-A186-EF5C9594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DEB81-40D3-4C58-8613-7DC814C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5DD6A-A270-462A-9F00-F3A5C26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03A5E-A6DF-4E45-AB34-2EA11A0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A1E97-E91A-4BDE-85F6-658C3D3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E540A-E705-4883-8DE2-BC9A8D9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3F7D1-1C18-46C1-8A45-C13633F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3092A-6700-43D4-B4B4-0788552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68BD0-E4EA-4790-A171-D2882CB0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C94B9-01A5-4ABE-92E6-203D76D0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D76DA-3099-402C-812F-3B62961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A406-C340-42FE-A5D6-A35FC8E8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1CCC5-0A32-4B61-B130-F503FC0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9C642-2879-49E3-A8D9-5ABCF7B0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C4353-C2AB-4D84-8C0A-58D6028E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F40B2-E0A1-4740-8D05-B90689D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017F7-4671-46C9-B415-EB63BEB6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41127-69C0-45EC-AF7D-861AC32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AF1D7-556E-4941-8A3A-173712B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24380-A4FC-4985-BFBF-1B7739F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806D5-2E02-4415-9C8F-7A35715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9E3A3-0EB3-4A3E-91FA-DA16F4C6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A5BE-25E5-472E-BBFB-FBF001C3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24FE0-019C-4491-B784-46C033EB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F7EA8-4D37-4789-B4F3-40A055A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CF665-8522-4D67-9151-72596A2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A7124-8DCC-4511-89F8-B26D07C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574BC-6F93-4574-B2AD-B2CA253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0820E-E7A5-4B71-95B1-4EC29AA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A4BE8-AA2C-42E8-8521-57C9A2B2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7DAB5-6493-476A-9C56-CAE6761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E9496-4589-4CA1-B1DD-D5AD2AC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7987F-EF83-40D1-861C-BB39CB8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6F5D-201A-4C9D-96C0-34A17D0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FB516-5AF5-4BCA-94FB-30E25D3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4ABA6-1B09-439C-A495-213BDF40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35A14-8E60-4EBA-B91D-FF3B355C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0B96F-20DA-464E-ACC1-65938E8D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842D7-287E-44F0-98DF-3A821A8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6EB34-DE25-4DF7-947B-2705FE74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8E374-0250-450C-A2D6-D3CCA3ED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299EB-2757-4C6B-A215-151463DB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3D116-A538-4AC5-BD34-8DB953F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592FF-E8C7-4E46-8AF4-626972A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9C2-5589-46E7-A529-23EC610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284-F60B-44DB-8DCA-2057397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4AF38-CBE2-499D-B56A-39B0367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73368-4BFE-4AD9-9ED7-88DB389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ED5D7-91AD-4FFB-A0C9-4D406314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9758C-CDE2-4826-A519-3C39292C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C40C6-6C00-4649-A1B7-48070E25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6F977-57C5-41EC-8106-B2101168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D5D66-3DDE-4FE0-AF71-B430137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4E9AD-1BA5-4155-BB78-EAF795EA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6DB1F-A265-4FF3-B548-A2C7036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377DF-5075-4511-A887-7720E85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3616-CDC9-46C2-8211-13766708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61496-F433-4813-B370-44316D0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A97F2-4FFB-47A8-AEB2-79D0638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28D3F-F54D-4FEF-A38A-6074F9BE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791CB-4A19-4765-A8EA-AC7DCCA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D9D42-3B77-4B7C-9FB7-7381768B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24A40-3590-4069-AD7D-1A3F3B2C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57CA7-23E6-43D0-AF93-96B2C27F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938C4-FE57-44A3-9A48-22240245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222EEF-3578-4670-B7AC-0C565D6E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268E0-626C-4351-89DC-FF05B7F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BBFD-E493-41FA-9C9B-E9E358E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4A859-620C-4A8F-BDB3-21B0F9B7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C4CC12-6605-48C3-ADEF-F5F6646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ED6192-5A39-42B5-9A2C-1FD5BFDF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CF52B9-E50B-4F36-8016-A405D89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B0DE3-9BBE-4C0D-ABA0-FDCD6FED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5D17C-8140-4544-A5FA-B3C88D1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93CD5-7514-4779-A1FB-E7956E9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F8076-D122-4239-98C8-167449FE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29E31-8EB4-40F9-AFA6-CBD9A56C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8FC57-F65B-47BF-A726-C3BC2BAF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82C-0149-41EB-8F4A-B6034F93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3FB0D-5CA6-4A47-8550-78676243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A54A4-095F-4565-80A9-B63E4EAB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DB798-25DF-44E6-8FBB-8B3FFA6A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A3212-F8F2-4C09-AFE9-FB1A9AF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868D4-A1BD-4A61-BF6D-9D74496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6C596-305A-461A-A53C-130055E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0E44A-7A19-442B-981C-942D785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3B04D-D83D-4F3D-B8DE-4E93B4A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6D6A7-8371-4C06-8B89-EC75FC0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2790D-781C-4417-8DF7-10F6E44E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6939-4011-4172-B75E-FC813F4B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6AA8A-6CB3-4B7B-BA49-F8765177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58453-EF88-4F90-85FA-10E1AC00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B3CE9-AC18-4C40-968C-471C8A7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E1A75-B7FD-4944-BBBF-4AD0CCF7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BB889-48D0-45E5-A37A-56A4680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3B0C5-FC70-430B-95D7-101E39D9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619526-E2C6-44AA-AD5F-9E2AE569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F87F4-4D69-4F97-8A0B-D47ED98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0A54E-3538-4894-8C4A-1969985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902B0-30A4-4F68-818B-2F49EB3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B081-9F7B-4D15-8EDC-51D0D609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1B8F3-4ED8-4AB1-AE52-82450767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767A6-BBDE-4BDA-BBE9-CD18CA5D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3BDBD-6E1C-4005-9085-BBC697B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99DF-9268-4022-8E31-8E8F4D3F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F7D87-6EF6-41D4-81B4-3CAA6E2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6515-FB94-4D47-8932-39D9F846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6085-0B50-4C8F-BCA5-778BB3C0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C53-B5C5-447B-8CF0-9AE657B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1851-97CE-4658-B5F9-E093ACE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88FC-5DE9-4BF4-B791-193922B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2F49-2821-4E57-BF11-A207ADE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4D04-22F6-4FF9-BE91-E79B7B47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07EA-7DF0-4443-BD17-F8AD9A3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124A-D4F5-4B72-9199-50FF6795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0378-02DF-468A-B4CC-6EA66792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4AD5-4EB1-4ADB-9937-6F775D18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B0DD-92F3-4DCF-AC89-0C80D23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346F-B613-4389-9CF5-2AE55300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DB8-BA7C-44BF-B756-AB4FF27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4A6D-64B4-4834-BA57-E4CD7B71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879C-E819-46C9-B499-9D9B88FF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8DDA-CFED-4175-AD44-EE2E992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D5F4-359F-4173-994E-E8457116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DFEA-7C17-41DC-8692-224D6C6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B267-157E-4975-A665-203D71D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FEF5-9FF7-4BA1-8DCD-94598AB4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320B-58E0-4A76-B9F5-FCC9B194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3DBB-83C1-471C-9314-076BAEA8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D663-D454-4914-AB4A-FEE2260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2CF-271E-41A3-AEF6-A4B3F913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A55E-AAAD-4258-85A5-55CAA4F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1DFD3-74B2-4246-BBED-70ED168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2006-77C9-45C0-9A67-D6CD8110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11AB-3E73-4278-8DEB-D61E82BB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4E4B-B902-4AFD-AD04-C6F5D66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D936-CA05-43D9-8DD3-450A055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E85F-0080-47FC-B0F7-E5C233B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7586-E05A-49F2-A968-F0ACD40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EB339-9271-4939-9B5A-0317B28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831E-83D9-42E3-A410-4D7E67BB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1BF-1B2F-4DFC-92AD-DB0B3A15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3475-5BD0-417F-BF74-763B9D31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FC673-94D1-4B7A-9E95-36F70D4F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925FC-7EB0-4FB7-A0B7-C9D2A10F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4C11-F4A3-427F-BD95-643A617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01EE1-3D42-4847-A151-3A8D0A8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E730-A2D1-4A2C-830F-7498406A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D3C0-5C27-433D-B3E8-86E243F8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8D01-35D0-414E-95E3-F2AA64A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9C89-2F52-4B29-A670-194968E2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2C10-5F4A-44B2-8BBD-AEF8B8B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ACA-9F40-4845-81DC-21678E2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58D6-A05F-40C8-B72F-A347486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BE40-26B3-43DA-84EB-5135B217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8D7E-E1BE-4B82-A06F-4F824E14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6CB2-C413-4FCF-9219-7F15E1E6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4EA47-CDA7-4A86-8239-580B83AC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F263-FB88-4A00-B061-82F37AAB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79CB-2C2F-4B42-AC0A-50DF1AD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F2123-B23A-41C4-BBCC-8BA7276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D730-EAB3-412A-83D1-D9F1A19E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98E0-26E4-46BE-AE44-BA5712B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478-51E2-4BEC-B0A8-512C211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A0D5-5DA2-404D-A929-C750056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EEE3-A24F-456B-BE48-5F4ED0F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02897-1AD2-49BD-B599-72AD8BC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41F10-FA39-4CDB-9C68-6E5BB6CC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90BD-8ABB-4110-8ED5-943EF7D0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9DBD6-463F-47F4-B4BF-1AE11C74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1FFB1-2C71-4EC7-B529-23D5634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D859-09EA-487D-B60E-A93840E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4CB7D-F5EA-459D-9051-B705512C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9DB6-CAF6-4215-B7F1-FC76D36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802-998D-4F25-89C3-57AE57E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ADA40-4FD8-4DF3-9047-4DC05F1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D3200-2F53-4C22-B92E-E7A5222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3896-2943-456D-BB06-682FBEC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BBF5B-BFE6-4177-A888-121B112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17BF-A0FC-490C-A89F-5EDFC59E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8F46-68A5-4495-9F19-1ABC524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F23E3-CB08-43A3-92CE-EF8BE6E8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6107D-DB47-4C59-84FA-D567D50B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B180-7AFA-4067-A857-AE794815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779E-6793-4CE8-A71E-879D4089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C71-2A64-460C-A4D3-E8DC1B285A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6C53-A311-47C5-85F3-509CDD16E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95E-F433-42BC-89BE-CA04F81BD3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456F-BC2F-4050-92C5-6439165E6D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EABA-6835-4C71-BCBD-629542417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09E-FDEC-4EE0-A0E9-7D6BB1AE2F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8EA-7497-4D23-908F-5B642963A1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3906-C1E4-4837-8B3A-7FED53EDC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F07-4E31-46D6-A27D-400E2D721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BE52-ED54-4C7E-9DA9-AC7AA7BEE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FAD2-F4C4-4D87-BEF6-29C56332F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4F9-B440-476E-B5B7-44DFEB76B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E86-C249-45A2-B1C1-10A4BDCF1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C4C6-768B-4A2D-AA6D-8E9C3B423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E094-E801-4577-ADD8-9498836CB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90F-5656-440F-9A7B-8A622D70B7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650-DA08-431B-BE51-9BC2B6556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C9A-F275-4127-9C33-143E4A04E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ADB-5F3E-4604-B03E-FEEFF3C73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35F-4EEC-402B-BCFA-12A0B5962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6EB-1015-45A4-A6BA-FF9DFAEE0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8EE-8EC1-4B1B-9F6B-E9CD225EA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17D-169F-4190-B29D-959AFCABBA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1A1F-AFD9-461F-8B70-C85477240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B964-9E55-4AD9-8E15-1F4E56F5F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11F-BE0E-4220-90BA-8D1BBE1FB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1D83-DCC0-4C46-A9F8-8D33F89F8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30C-ADAD-4199-8A21-3EDDCC7A01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F30-FE08-4D00-8868-63AA39E9A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1094-36CB-41B4-A8BA-0002557F3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DBAF-987F-4707-A6A9-A69B19BB2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A0B6-5E6D-4A18-BAD1-3EFF5D014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6DC-6B25-43CF-995E-2B965D28E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BE9-7374-4846-814A-84E1BCABB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80D-0B15-4773-B457-AC43B97FD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410-4BFE-4C73-9721-485695A3C7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1BF-FA95-49EA-887C-1D2240677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212-EF6E-4835-BE89-0C5AE18EC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C0F-C6A9-469E-B399-D95E4998A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0EC-C6E8-41F8-99D2-47A7EA0BC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0373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9633" descr=""/>
          <p:cNvPicPr/>
          <p:nvPr/>
        </p:nvPicPr>
        <p:blipFill>
          <a:blip r:embed="rId1"/>
          <a:stretch/>
        </p:blipFill>
        <p:spPr>
          <a:xfrm>
            <a:off x="1042920" y="1095480"/>
            <a:ext cx="7058160" cy="4667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826920" y="3068640"/>
            <a:ext cx="6409080" cy="720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7274160" cy="720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6"/>
          <a:stretch/>
        </p:blipFill>
        <p:spPr>
          <a:xfrm>
            <a:off x="684360" y="4869000"/>
            <a:ext cx="7273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8609" descr=""/>
          <p:cNvPicPr/>
          <p:nvPr/>
        </p:nvPicPr>
        <p:blipFill>
          <a:blip r:embed="rId1"/>
          <a:stretch/>
        </p:blipFill>
        <p:spPr>
          <a:xfrm>
            <a:off x="1509840" y="976320"/>
            <a:ext cx="6124320" cy="49053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1619280" y="337176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1619280" y="3875040"/>
            <a:ext cx="604980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1547640" y="4394160"/>
            <a:ext cx="6050160" cy="476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7"/>
          <a:stretch/>
        </p:blipFill>
        <p:spPr>
          <a:xfrm>
            <a:off x="1476360" y="4956120"/>
            <a:ext cx="60498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71440" y="1590840"/>
            <a:ext cx="8601120" cy="3676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11200" y="3112920"/>
            <a:ext cx="860436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860436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41440" y="414972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6588000" y="4149720"/>
            <a:ext cx="230508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684360" y="4724280"/>
            <a:ext cx="230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442800" y="1571760"/>
            <a:ext cx="8258400" cy="371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468360" y="2506680"/>
            <a:ext cx="619128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281160" y="3068640"/>
            <a:ext cx="4968720" cy="476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5264280" y="3068640"/>
            <a:ext cx="348444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2592360" cy="476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3044880" y="3602160"/>
            <a:ext cx="6099120" cy="476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122400" y="4149720"/>
            <a:ext cx="86328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971640" y="4149720"/>
            <a:ext cx="489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9"/>
          <a:stretch/>
        </p:blipFill>
        <p:spPr>
          <a:xfrm>
            <a:off x="5940360" y="4149720"/>
            <a:ext cx="287964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0"/>
          <a:stretch/>
        </p:blipFill>
        <p:spPr>
          <a:xfrm>
            <a:off x="468360" y="4724280"/>
            <a:ext cx="86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8373" descr=""/>
          <p:cNvPicPr/>
          <p:nvPr/>
        </p:nvPicPr>
        <p:blipFill>
          <a:blip r:embed="rId1"/>
          <a:stretch/>
        </p:blipFill>
        <p:spPr>
          <a:xfrm>
            <a:off x="528480" y="1290600"/>
            <a:ext cx="8087040" cy="4276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583236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395280" y="2722680"/>
            <a:ext cx="5832360" cy="7920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250920" y="3673440"/>
            <a:ext cx="5257800" cy="792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580000" y="3860640"/>
            <a:ext cx="316872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324000" y="4667400"/>
            <a:ext cx="525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7352" descr=""/>
          <p:cNvPicPr/>
          <p:nvPr/>
        </p:nvPicPr>
        <p:blipFill>
          <a:blip r:embed="rId1"/>
          <a:stretch/>
        </p:blipFill>
        <p:spPr>
          <a:xfrm>
            <a:off x="419040" y="1871640"/>
            <a:ext cx="8305920" cy="3114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468360" y="2751120"/>
            <a:ext cx="6119640" cy="476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6120000" cy="475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4537080" cy="476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4932360" y="3860640"/>
            <a:ext cx="396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395280" y="4437000"/>
            <a:ext cx="396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6324" descr=""/>
          <p:cNvPicPr/>
          <p:nvPr/>
        </p:nvPicPr>
        <p:blipFill>
          <a:blip r:embed="rId1"/>
          <a:stretch/>
        </p:blipFill>
        <p:spPr>
          <a:xfrm>
            <a:off x="476280" y="1019160"/>
            <a:ext cx="8191440" cy="4819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7201080" cy="475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72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24000" y="3025800"/>
            <a:ext cx="8496000" cy="834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6769080" cy="834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7135920" y="4149720"/>
            <a:ext cx="175716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324000" y="5013360"/>
            <a:ext cx="67690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5300" descr=""/>
          <p:cNvPicPr/>
          <p:nvPr/>
        </p:nvPicPr>
        <p:blipFill>
          <a:blip r:embed="rId1"/>
          <a:stretch/>
        </p:blipFill>
        <p:spPr>
          <a:xfrm>
            <a:off x="428760" y="1486080"/>
            <a:ext cx="8286480" cy="388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324000" y="2319480"/>
            <a:ext cx="626400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24000" y="3371760"/>
            <a:ext cx="73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453960" y="3860640"/>
            <a:ext cx="50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508720" y="3860640"/>
            <a:ext cx="36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324000" y="4365720"/>
            <a:ext cx="36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395280" y="4869000"/>
            <a:ext cx="363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54276" descr=""/>
          <p:cNvPicPr/>
          <p:nvPr/>
        </p:nvPicPr>
        <p:blipFill>
          <a:blip r:embed="rId1"/>
          <a:stretch/>
        </p:blipFill>
        <p:spPr>
          <a:xfrm>
            <a:off x="781200" y="1176480"/>
            <a:ext cx="7581600" cy="4505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611280" y="2147760"/>
            <a:ext cx="6840360" cy="849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755640" y="4076640"/>
            <a:ext cx="5543640" cy="476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6840720" cy="476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7632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52231" descr=""/>
          <p:cNvPicPr/>
          <p:nvPr/>
        </p:nvPicPr>
        <p:blipFill>
          <a:blip r:embed="rId1"/>
          <a:stretch/>
        </p:blipFill>
        <p:spPr>
          <a:xfrm>
            <a:off x="404640" y="1752480"/>
            <a:ext cx="8334720" cy="335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95280" y="2752560"/>
            <a:ext cx="8353440" cy="747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380880" y="3573360"/>
            <a:ext cx="3672000" cy="476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4067280" y="3557520"/>
            <a:ext cx="4681440" cy="476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93600" y="4076640"/>
            <a:ext cx="1224000" cy="476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1332000" y="407664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7"/>
          <a:stretch/>
        </p:blipFill>
        <p:spPr>
          <a:xfrm>
            <a:off x="7783560" y="4076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8"/>
          <a:stretch/>
        </p:blipFill>
        <p:spPr>
          <a:xfrm>
            <a:off x="236520" y="4581360"/>
            <a:ext cx="3816360" cy="476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9"/>
          <a:stretch/>
        </p:blipFill>
        <p:spPr>
          <a:xfrm>
            <a:off x="4067280" y="4581360"/>
            <a:ext cx="2809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2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